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  <p:sldId id="278" r:id="rId45"/>
    <p:sldId id="27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slide" Target="slides/slide23.xml"/><Relationship Id="rId46" Type="http://schemas.openxmlformats.org/officeDocument/2006/relationships/slide" Target="slides/slide2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9D91-3A5F-4873-90E7-F8C3F513E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3473-218F-4891-8ED3-B912791A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0EFCB-2A8D-45EA-BE3E-68554934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3C3366-801D-4756-BDE3-EC857716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77B69-0995-42A8-A3E4-8F782253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F9B53-1E64-413A-9F5E-13F1C1F9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F2310-A5B5-470B-B8F6-825F283D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5979F5-2444-47FB-B200-98E94F49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22AFB-5B7D-464E-B734-33BE8A18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1C7769-EBA5-4476-AF49-339FFA5C9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7361F-09BE-448B-8B62-2669F8EF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4B3BAB-FBE1-4E56-9674-A8495103D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60B5-9CCB-4A90-A706-52286D5BD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27F631-6CEC-4025-8244-7CA771A3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CCCAC7-D560-462F-81D4-26F8BD02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D8CD9-A61F-46C9-AD77-8BA77774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DD05E-A7AC-4622-ABC1-4CA3B2FA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939C6B-8D40-424A-97E4-293AEC56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D57F32-15A4-4E14-B8AA-90B3FBF6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AD0C7F-BB35-488D-85A6-81D61FDE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30902-A1F9-4B3F-9A0C-FA7C8017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B73BE-6EAF-4A50-B07F-5BE9FD95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43FC0-2717-4DE4-984F-E473FCC03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0F4B-3969-415B-BC4B-CC0543B23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1EAD9E-35F6-420C-B41F-3F69C036B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562CB-64A1-462B-AFB3-85EF77038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A3CF5-B7A7-4027-8508-6510EF76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C28CB-F6EC-4C43-B028-2C8A5AE9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4BDC8-F1AB-4D9A-A65E-3DF914DD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9EAC7-AF69-46E6-AEB3-0FEB3339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857C1-1038-4556-AE4C-129308CE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D2E8D-E8BE-4BB3-979C-2FD1DF28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541CE-6848-43E8-9752-0E540F2F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B3739-5138-48B8-8657-A155A41F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6492-162D-4915-853F-88F1E42FA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D09C8-D799-4C16-8F1B-8E3D784E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AFCBC-88E9-4105-AF88-1763241A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57128-769C-47E9-B5F8-F6145DCC7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513FE0-7FA9-4B18-AA71-F9168A5B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594101-021D-4F01-8182-30D1A461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BA21D3-F992-4757-BF5F-DFEDAF3F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495196-579E-4826-9F8E-2660175B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C8DE77-D1EE-469B-B2EA-B37507FD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A77C6B-B898-4348-86D6-1CFC1BAB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C921C2-96FC-4CB4-9DF3-6E2E4DB0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49C2-B8A7-4F9D-A659-F5CA34F7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0463DD-C731-439D-9A56-7B3E5032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55A658-2A7F-41FD-9A03-B54CCF27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4CE6B-0001-482E-A505-DD7D7CD6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540768-11D3-4329-8916-56F3EBF54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687815-94B2-4E28-A77A-AF5CF746C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5789C8-EEDE-49D0-BCDA-4CE22FA0C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C0EB6D-5E54-4983-8D68-69E8DC7B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FA23BD-CA63-4546-B66A-20C83DF9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4E0EAC-DAAA-45F8-A535-1AB1F244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06D735-E838-4234-9784-0865F133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E5CF-8696-4BE6-9689-3D4BDC28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08D35F-6102-468A-947B-29AC824D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419093-4C70-4286-9BA5-643F0928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0EBB50-B022-434A-A620-75D57D85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77A03F-1374-411F-980F-45FA37BF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8938E7-0FBB-41E6-B80B-2F20DD04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D762E5-5A99-4C71-84C2-53D287DD4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CC3A26-76AF-41B3-8ED5-7C5B95021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E542CB-91E1-4A4D-AA38-808A0B70B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4F0695-B524-4492-9A52-62985020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061879-2E32-413C-AA40-10CA6F25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D110-B236-470E-B806-663CC54E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D8E914-2DFF-43E9-9F48-D860929E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4A03AD-4688-4276-8715-24CA0072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7B8B68-BF43-43CF-B42B-5267FBD6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4B450C-B2DC-4803-874E-109C64C6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7A4504-3A60-4101-B757-EB112461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1FD471-68BF-42BF-8B04-506561C2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CFA4AD-2192-4B7E-9091-C7C6C3DF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C45FFB-A565-4E93-BF33-8681B2F6F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716CC2-D717-4DDC-B27F-F6BAFDC61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5D3A17-D91D-4A1F-B7E1-7C98A491A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5104-13DA-4551-BB04-4DEF3B15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CA6838-12FE-4296-A335-959D42FB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E19FC2-A0C1-454C-9BD1-92E66778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6F793B-995B-4858-B9A0-7405F902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821DD0-CF7E-4E6A-9FE7-9B39E807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A49C17-0502-4815-87E2-202F4BAE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A2A2AF-3F4D-42AB-9B03-A7A332BE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855F3B-EE03-40EC-A4A9-8326D144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B5B584-80B2-4CEC-A907-9A155FCA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20F8A1-873D-493B-B9A3-54D01AEC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13B387-12EC-49E0-8C3A-4B2383F9C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18E4-20BD-46EC-A03E-9D797D06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5907A1-490B-4397-B7D0-4973D70BE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5A9A41-C142-4198-BF2E-C2C7F4D99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B98F07-CC38-42CA-8770-38B2E7A1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CBB965-F5DF-4394-A60F-9724ADEB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EB71BE-C14D-4627-8B9B-83BCC2EE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739ADA-89AE-4CDA-A920-A5A76D67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010FE0-9F8F-4644-95A9-CB4A66AA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73AD7F-57CE-4666-BBAB-89F0FF85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C2E0F2-BF7F-4FFA-BB99-AEDFF721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692DCB-9A7E-4FFF-B0CB-6150A516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138D-5F1F-436D-95FE-02670906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FE13AC-CE6A-4236-843C-217F87ED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792297-D81E-49A6-97DB-A136735DC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00BED5-98D0-4DE9-BC76-88DB958FE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4B9325-5E51-4053-AD4F-640E3E9BE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B2D268-8BE9-407B-A06C-E8196BEA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024FBE-8FF0-4245-AF70-B32F0A00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4AB478-B16F-4EE5-BA1B-0C5F335D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3275DA-C42F-4FB6-8FE5-35A9CA20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35C09F-8F2A-43FE-B21E-F0422D6D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0C03D3-C199-4DBE-8075-DAB20BC5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7DC1-D412-4D14-9BDF-0CCD2216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F598-94BD-4420-94A0-D77C6B20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88DB03-3571-4AB7-B69A-90A354B3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005A3A-EDB1-4760-A01C-5773AF73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0DF7ED-2FA2-4B12-A0C3-46BE9F1F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EB7F09-F3A5-4C3D-BDBE-AE607EEA6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3D0013-1AAE-468D-A946-07D5E2595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AAF03F-FA67-41AE-9034-28E43FAD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D769CA-20A0-4BC6-A320-47DED430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4B94FC-D4EF-4535-90A1-FC552415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515E40-2AA3-430C-BF0B-C8C44A66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E880F3-CD45-4BC4-99C3-961AD233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D62C-1489-4CEF-8B67-74B6069F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6D3B8D-41A0-4CB9-85F4-49D0AA10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03ED74-6452-4F83-A911-3F7B3521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3A85A3-5CFE-4B03-A1E6-3F731D6B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3755CB-917C-4B8F-9F86-783FDA56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4FEFB5-8CAC-4346-8BF9-5CFDA999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633415-9A20-458C-9788-EAF0CE470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5F7DA3-D989-4CBD-A0F4-FF0EA3081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D1C6EC-BA40-44A8-9613-7C5D84AC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9F3B23-EFD8-419B-B78A-8C6541EE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2FF028-501F-4013-BC79-1A129511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57AA-FD5A-4FB3-914F-D77001D7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FF4376-5625-428B-BF4A-3807DFE8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5351A9-CCF4-433A-BFE1-F64E0B1D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117A5B-AF23-484A-B078-0A9B3BDE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393806-FD6E-47BF-9350-5748C028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20583E-EEAE-4B1F-B180-8DC17B7F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F5188A-7CCC-4987-8FAB-8C48F2A5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A5280B-A953-4821-9FF3-DFF669FB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5BC8E9-560B-42C9-84F6-8DDE0CFE3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CAAC50-FB00-4EBD-909D-077096391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A8EE72-1BAD-4109-8A28-B15714430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7037-9C69-4CA5-B424-F0A5581BD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2AFAA5-E811-4D39-A53B-F960AF1D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4B0542-C289-47BA-9CC1-B939ABE0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2FFAB3-2027-4F9A-94E8-D77CEC58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6AAB94-2FAB-4F23-8FA8-E1D7AA0A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75D98F-38B0-4F99-94E6-754608F9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2A92A8-1499-43CC-8B22-DE7BA0B6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725424-0C4F-4B08-B74F-0D7A1191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476CD3-7E6D-4857-8663-2ED5B734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CC520A-B2D6-4E95-8F38-29DFA6C3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0DA98B-E1A1-461A-AEF4-100CA7DCD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5525-2C09-4537-A807-C0344AF66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8373B1-962A-4E63-AAA4-C63FCB005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9F5028-464C-4D47-86ED-80BF9F126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8A79D7-0220-43E4-9CE7-660CF4D6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BF6C16-8275-4683-916D-8D5CE049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2041B3-F000-4090-9482-E76FECEF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C1703A-52AF-4C36-8951-C12617B3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2F6375-50C3-4105-A897-8A4FC3F2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0F3EAA-82D1-4BA3-A1A7-7A94A0B6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1AF539-9E45-45F7-A15C-003C240D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FB16CF-2FD4-41CA-9F25-76C80234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922EF-01CE-4708-88ED-B08220471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DDE081-7E5B-427A-A8AD-4599EB2A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4BB80D-F67F-41BF-94EA-056F32886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E5D24B-C256-413E-8BD5-70F6E7494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61371-145D-468F-B3CC-C2EB1955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C0D40-C88C-42D6-B612-23726136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7BDFC-6060-44E1-99E8-195808E5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D00A8-2A05-4766-A696-59F4DEBA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0AE0-20CC-44E5-A1BC-4C7119E0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03387-F890-456E-9B6A-1D2D73EF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BB13E-D52E-4ED6-A869-CDB23B88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65BEB-9CE0-4865-AA71-719CB6B3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947C5-0363-4853-8CFB-793DBCF6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9CD16-E348-4B55-9CB8-313554E3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D2607-A976-4AFC-9882-CF9347150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4FB1C-E879-4BE3-B5F3-10E064773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235E1-2B0A-4A7C-B165-F0C6F7629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42056-824F-460C-B0D6-79DEA1CC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70716-C39C-4CB8-9BAC-5EDB7287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0687-EF1C-4078-AF5C-57EA56FD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4B1A6-3F4E-4335-B9B3-4CC54C12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A0C7F-5307-420B-A4B2-C81D74BE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A785C-69E6-413D-9E22-D2FB92D8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C7D4F-67F8-45BF-8F81-76B727AD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1338F-09E2-4505-AF99-9A4CE7DB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E4FBC-623C-4F3C-B3D0-2F9230E2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C5D13-9EE9-4C9B-8D6D-5F5754F0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41EC9-9628-4EC4-9070-D6FA9E3F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CEA56-1F54-4DDD-BCA6-0675857ED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6F6EF-E3E8-40F9-BE0E-A39AFC988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1AC3-CA7E-4BF0-8825-1B88C379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9AFBC-B960-4813-993D-CDBF9D92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D7CAD-CF2C-4A59-9FC3-BFACDE50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6C672-96D9-470F-9E13-A6ED6D79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4D927-B179-45A3-974F-862ECD0C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66AEC-FAD9-4F75-B3B3-BFBDA3B1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CBBC8-1375-4895-B6B4-D0AA9960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5E448-448A-4C3B-80CD-70C6EAD0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B292E-8A66-47D8-98C7-4F72DEDA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87AFF-AB70-4974-8493-FDDD7C15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798C3-D982-489B-86DB-C6A6DC577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CE2A-9D56-4D85-B8A6-C91C66F2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9F5BB-417A-41C4-BEE8-FF5BF5020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937B3-DB11-40ED-993E-54B6E4965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AE5FA-1C1E-4377-891B-51FB58F9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7F46C-1FE0-4AD2-89BE-1E3E58DA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3B984-DEDC-41A7-A340-A8142B92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FDE11-1210-4D31-B501-0E42AC84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E337C-44BC-44B9-A18D-4F925397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A9637-106C-4F6B-ADCA-E34BBD3A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345AB-309F-4DE6-9099-06BAF262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92394-B06A-471B-B23F-BD421AEC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31A8-BDC5-4EBA-8E8F-4040B501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1FEC1-D5E5-475E-95E0-C9B571B5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C47AB-602C-479B-A690-6E4314FCF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42BBD-233F-4432-A20F-67B902FB8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AB794-8E97-4DF3-8BD4-D7C3DAD5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9CE46-1706-4F37-8FFE-EAAE921F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41A29-6C8D-42E4-AF39-6E9D8787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BEFE4-47D4-4774-935A-DB631E07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9030F-680C-4ECB-8541-47573754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5830F-8B30-49BC-9B50-3A456A30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D641E-2B58-45E5-B2DD-E032119B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4E46-4A6C-4121-9461-258634B5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9B968-599D-409F-8CD3-3EFE7973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B032F-A8E7-4D4D-B1F9-51DA236B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D8A72-8356-4B40-93DB-1D0384E5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71DA3-11B9-41CD-9283-E3065280E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7F26B-67E7-4307-9031-F10F2C1A4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FC916-E19A-424A-AD68-8B6566B70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3D8F6-C680-4985-9718-80D534D6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04901-DB22-44FB-9839-AB818EA7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88F1B-F98A-4276-8FB9-47678484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31C5A-43B0-409B-8020-06DFC8A5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E591-5D3D-4165-B752-2FDD03A0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58A37-241C-4FC1-AB08-32D1F281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F7DFA-B696-4402-A156-AEBA029E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C7DD7-7E6A-47AE-B987-2575A8CC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BF3CD-27D2-4169-9E9F-D36FE395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52044-E758-49BD-8B4F-2B39FAC8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22FF6-59F8-4F5E-A7F5-C09BDEC8E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E8D1D-BE98-4AB6-9557-9AC00EB7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A0804-026B-4992-8AB3-13338BFAC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D83DED-DEC5-4ABF-8A2C-31BAD013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427C36-9DF2-4C44-95CE-37E64953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79B4-EAC2-4F43-843E-6D86B0B09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F94A-EC95-4FEE-9595-22EA94811D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0813-1F19-4ED1-A34A-589197940C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B315-6C62-42FD-932C-14CE718378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59C2-76C5-45E9-8B53-F25BA91B58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526A-D906-4401-A2A0-51AC3DDE14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9E59-2FD7-473C-95CE-4B3191BEFE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2409-820D-4D12-BF6A-136E687A6A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95A9-6EB8-470D-B623-6B2ADD7715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0507-726F-49B7-BC4C-3D14CCABE5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4374-A858-44C4-A0A0-41E5CD590D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E4D1-0D5E-4383-B10F-3E7EB6A561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B8BF-DD05-4DDD-B230-EDF0FCF404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2B59-C92C-497C-A6D5-A2125DCAD5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AB3D-0665-4CEA-A550-392544DC72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60D4-B570-4E6A-91B7-10BEC318CD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FCEC-1BDC-4EF1-9ED2-6E6DE31778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8726-B9AB-4618-B667-DFC35D6222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3AE9-B2C4-469E-8995-ABF20FC43E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0C3E-2EC4-4B24-A7F1-ED58E9E87B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877B-CB7F-470B-BDFC-9B891F7C48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C22F-F44A-42D7-8DC7-A327DA28CA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32BD-E8A8-4B28-B2E0-0EFF255CC6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B122-2AE7-46F5-B5DC-DC7052D317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AC37-B36C-45BA-B792-F232B169EE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A634-D9D5-473E-9FEE-445F9F1350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1F4C-FF01-45E9-B58D-5EFFA9FD63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76C8-D083-48E0-9D4E-A224B0DAB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FCB5-72C5-43D1-A69C-498F39DA00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51C0-B9E3-469A-9726-6D00772C13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F4E2-7AC0-4FCD-B4E8-A3824220C2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6913-F29F-4F9E-9F7E-54397AFEFC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C145-BE4C-4DA4-AF0E-2E1E2FB383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A6BE-1B5B-4F73-A472-9B64B640A3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7E5D-67A3-45DA-A9AE-B76F5C00C7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6600-7F6A-4574-8460-91B6B53479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F607-D52D-4B7B-869F-ECE9959A9F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1550-E297-48A5-B11E-0377F67595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A084-1797-4FDB-80C7-2B546559FF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3D6F-B23E-45C1-BB87-5E64687516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204840" y="2257560"/>
            <a:ext cx="873432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"/>
          <p:cNvPicPr/>
          <p:nvPr/>
        </p:nvPicPr>
        <p:blipFill>
          <a:blip r:embed="rId1"/>
          <a:stretch/>
        </p:blipFill>
        <p:spPr>
          <a:xfrm>
            <a:off x="233280" y="1243080"/>
            <a:ext cx="8677440" cy="49719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" descr=""/>
          <p:cNvPicPr/>
          <p:nvPr/>
        </p:nvPicPr>
        <p:blipFill>
          <a:blip r:embed="rId2"/>
          <a:stretch/>
        </p:blipFill>
        <p:spPr>
          <a:xfrm>
            <a:off x="8259840" y="1712880"/>
            <a:ext cx="442800" cy="3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Picture 1" descr=""/>
          <p:cNvPicPr/>
          <p:nvPr/>
        </p:nvPicPr>
        <p:blipFill>
          <a:blip r:embed="rId1"/>
          <a:stretch/>
        </p:blipFill>
        <p:spPr>
          <a:xfrm>
            <a:off x="247680" y="923760"/>
            <a:ext cx="8648640" cy="179100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2" descr=""/>
          <p:cNvPicPr/>
          <p:nvPr/>
        </p:nvPicPr>
        <p:blipFill>
          <a:blip r:embed="rId2"/>
          <a:stretch/>
        </p:blipFill>
        <p:spPr>
          <a:xfrm>
            <a:off x="223920" y="2952720"/>
            <a:ext cx="8696160" cy="37623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3"/>
          <a:stretch/>
        </p:blipFill>
        <p:spPr>
          <a:xfrm>
            <a:off x="8259840" y="1363680"/>
            <a:ext cx="442800" cy="3556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4"/>
          <a:stretch/>
        </p:blipFill>
        <p:spPr>
          <a:xfrm>
            <a:off x="5219640" y="4437000"/>
            <a:ext cx="442800" cy="3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1" descr=""/>
          <p:cNvPicPr/>
          <p:nvPr/>
        </p:nvPicPr>
        <p:blipFill>
          <a:blip r:embed="rId1"/>
          <a:stretch/>
        </p:blipFill>
        <p:spPr>
          <a:xfrm>
            <a:off x="243000" y="1719360"/>
            <a:ext cx="8658000" cy="37814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2"/>
          <a:stretch/>
        </p:blipFill>
        <p:spPr>
          <a:xfrm>
            <a:off x="8259840" y="3160800"/>
            <a:ext cx="442800" cy="3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1" descr=""/>
          <p:cNvPicPr/>
          <p:nvPr/>
        </p:nvPicPr>
        <p:blipFill>
          <a:blip r:embed="rId1"/>
          <a:stretch/>
        </p:blipFill>
        <p:spPr>
          <a:xfrm>
            <a:off x="195120" y="1405080"/>
            <a:ext cx="8753760" cy="438120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" descr=""/>
          <p:cNvPicPr/>
          <p:nvPr/>
        </p:nvPicPr>
        <p:blipFill>
          <a:blip r:embed="rId2"/>
          <a:stretch/>
        </p:blipFill>
        <p:spPr>
          <a:xfrm>
            <a:off x="5580000" y="3429000"/>
            <a:ext cx="442800" cy="3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Picture 1" descr=""/>
          <p:cNvPicPr/>
          <p:nvPr/>
        </p:nvPicPr>
        <p:blipFill>
          <a:blip r:embed="rId1"/>
          <a:stretch/>
        </p:blipFill>
        <p:spPr>
          <a:xfrm>
            <a:off x="233280" y="857160"/>
            <a:ext cx="8677440" cy="12668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2" descr=""/>
          <p:cNvPicPr/>
          <p:nvPr/>
        </p:nvPicPr>
        <p:blipFill>
          <a:blip r:embed="rId2"/>
          <a:stretch/>
        </p:blipFill>
        <p:spPr>
          <a:xfrm>
            <a:off x="219240" y="2214720"/>
            <a:ext cx="8705520" cy="454320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"/>
          <p:cNvPicPr/>
          <p:nvPr/>
        </p:nvPicPr>
        <p:blipFill>
          <a:blip r:embed="rId3"/>
          <a:stretch/>
        </p:blipFill>
        <p:spPr>
          <a:xfrm>
            <a:off x="1042920" y="1620720"/>
            <a:ext cx="443160" cy="3556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4" descr=""/>
          <p:cNvPicPr/>
          <p:nvPr/>
        </p:nvPicPr>
        <p:blipFill>
          <a:blip r:embed="rId4"/>
          <a:stretch/>
        </p:blipFill>
        <p:spPr>
          <a:xfrm>
            <a:off x="1571760" y="1620720"/>
            <a:ext cx="442800" cy="3556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5"/>
          <a:stretch/>
        </p:blipFill>
        <p:spPr>
          <a:xfrm>
            <a:off x="2097000" y="1609560"/>
            <a:ext cx="443160" cy="3556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6"/>
          <a:stretch/>
        </p:blipFill>
        <p:spPr>
          <a:xfrm>
            <a:off x="2616120" y="1601640"/>
            <a:ext cx="443160" cy="3556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4" descr=""/>
          <p:cNvPicPr/>
          <p:nvPr/>
        </p:nvPicPr>
        <p:blipFill>
          <a:blip r:embed="rId7"/>
          <a:stretch/>
        </p:blipFill>
        <p:spPr>
          <a:xfrm>
            <a:off x="3139920" y="1593720"/>
            <a:ext cx="443160" cy="3556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4" descr=""/>
          <p:cNvPicPr/>
          <p:nvPr/>
        </p:nvPicPr>
        <p:blipFill>
          <a:blip r:embed="rId8"/>
          <a:stretch/>
        </p:blipFill>
        <p:spPr>
          <a:xfrm>
            <a:off x="3665520" y="1590840"/>
            <a:ext cx="442800" cy="35532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4" descr=""/>
          <p:cNvPicPr/>
          <p:nvPr/>
        </p:nvPicPr>
        <p:blipFill>
          <a:blip r:embed="rId9"/>
          <a:stretch/>
        </p:blipFill>
        <p:spPr>
          <a:xfrm>
            <a:off x="4194000" y="1590840"/>
            <a:ext cx="443160" cy="3553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4" descr=""/>
          <p:cNvPicPr/>
          <p:nvPr/>
        </p:nvPicPr>
        <p:blipFill>
          <a:blip r:embed="rId10"/>
          <a:stretch/>
        </p:blipFill>
        <p:spPr>
          <a:xfrm>
            <a:off x="4719600" y="1579680"/>
            <a:ext cx="442800" cy="3553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4" descr=""/>
          <p:cNvPicPr/>
          <p:nvPr/>
        </p:nvPicPr>
        <p:blipFill>
          <a:blip r:embed="rId11"/>
          <a:stretch/>
        </p:blipFill>
        <p:spPr>
          <a:xfrm>
            <a:off x="5238720" y="1571760"/>
            <a:ext cx="442800" cy="35532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4" descr=""/>
          <p:cNvPicPr/>
          <p:nvPr/>
        </p:nvPicPr>
        <p:blipFill>
          <a:blip r:embed="rId12"/>
          <a:stretch/>
        </p:blipFill>
        <p:spPr>
          <a:xfrm>
            <a:off x="5762520" y="1563840"/>
            <a:ext cx="443160" cy="3553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4" descr=""/>
          <p:cNvPicPr/>
          <p:nvPr/>
        </p:nvPicPr>
        <p:blipFill>
          <a:blip r:embed="rId13"/>
          <a:stretch/>
        </p:blipFill>
        <p:spPr>
          <a:xfrm>
            <a:off x="6288120" y="1606680"/>
            <a:ext cx="442800" cy="35532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4" descr=""/>
          <p:cNvPicPr/>
          <p:nvPr/>
        </p:nvPicPr>
        <p:blipFill>
          <a:blip r:embed="rId14"/>
          <a:stretch/>
        </p:blipFill>
        <p:spPr>
          <a:xfrm>
            <a:off x="6816600" y="1606680"/>
            <a:ext cx="443160" cy="35532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4" descr=""/>
          <p:cNvPicPr/>
          <p:nvPr/>
        </p:nvPicPr>
        <p:blipFill>
          <a:blip r:embed="rId15"/>
          <a:stretch/>
        </p:blipFill>
        <p:spPr>
          <a:xfrm>
            <a:off x="7342200" y="1593720"/>
            <a:ext cx="442800" cy="3556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4" descr=""/>
          <p:cNvPicPr/>
          <p:nvPr/>
        </p:nvPicPr>
        <p:blipFill>
          <a:blip r:embed="rId16"/>
          <a:stretch/>
        </p:blipFill>
        <p:spPr>
          <a:xfrm>
            <a:off x="7861320" y="1587600"/>
            <a:ext cx="442800" cy="35388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4" descr=""/>
          <p:cNvPicPr/>
          <p:nvPr/>
        </p:nvPicPr>
        <p:blipFill>
          <a:blip r:embed="rId17"/>
          <a:stretch/>
        </p:blipFill>
        <p:spPr>
          <a:xfrm>
            <a:off x="8385120" y="1579680"/>
            <a:ext cx="442800" cy="35532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4" descr=""/>
          <p:cNvPicPr/>
          <p:nvPr/>
        </p:nvPicPr>
        <p:blipFill>
          <a:blip r:embed="rId18"/>
          <a:stretch/>
        </p:blipFill>
        <p:spPr>
          <a:xfrm>
            <a:off x="3635280" y="5877000"/>
            <a:ext cx="1008000" cy="3556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4" descr=""/>
          <p:cNvPicPr/>
          <p:nvPr/>
        </p:nvPicPr>
        <p:blipFill>
          <a:blip r:embed="rId19"/>
          <a:stretch/>
        </p:blipFill>
        <p:spPr>
          <a:xfrm>
            <a:off x="1403280" y="6332400"/>
            <a:ext cx="3097440" cy="3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Picture 1" descr=""/>
          <p:cNvPicPr/>
          <p:nvPr/>
        </p:nvPicPr>
        <p:blipFill>
          <a:blip r:embed="rId1"/>
          <a:stretch/>
        </p:blipFill>
        <p:spPr>
          <a:xfrm>
            <a:off x="490680" y="1000080"/>
            <a:ext cx="8162640" cy="454356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4" descr=""/>
          <p:cNvPicPr/>
          <p:nvPr/>
        </p:nvPicPr>
        <p:blipFill>
          <a:blip r:embed="rId2"/>
          <a:stretch/>
        </p:blipFill>
        <p:spPr>
          <a:xfrm>
            <a:off x="5148360" y="954000"/>
            <a:ext cx="2087640" cy="35568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4" descr=""/>
          <p:cNvPicPr/>
          <p:nvPr/>
        </p:nvPicPr>
        <p:blipFill>
          <a:blip r:embed="rId3"/>
          <a:stretch/>
        </p:blipFill>
        <p:spPr>
          <a:xfrm>
            <a:off x="6227640" y="1363680"/>
            <a:ext cx="1081080" cy="35568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4" descr=""/>
          <p:cNvPicPr/>
          <p:nvPr/>
        </p:nvPicPr>
        <p:blipFill>
          <a:blip r:embed="rId4"/>
          <a:stretch/>
        </p:blipFill>
        <p:spPr>
          <a:xfrm>
            <a:off x="6875640" y="2205000"/>
            <a:ext cx="1225440" cy="3556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4" descr=""/>
          <p:cNvPicPr/>
          <p:nvPr/>
        </p:nvPicPr>
        <p:blipFill>
          <a:blip r:embed="rId5"/>
          <a:stretch/>
        </p:blipFill>
        <p:spPr>
          <a:xfrm>
            <a:off x="4067280" y="3475080"/>
            <a:ext cx="4176720" cy="35388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4" descr=""/>
          <p:cNvPicPr/>
          <p:nvPr/>
        </p:nvPicPr>
        <p:blipFill>
          <a:blip r:embed="rId6"/>
          <a:stretch/>
        </p:blipFill>
        <p:spPr>
          <a:xfrm>
            <a:off x="2987640" y="5122800"/>
            <a:ext cx="1513080" cy="3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Picture 1" descr=""/>
          <p:cNvPicPr/>
          <p:nvPr/>
        </p:nvPicPr>
        <p:blipFill>
          <a:blip r:embed="rId1"/>
          <a:stretch/>
        </p:blipFill>
        <p:spPr>
          <a:xfrm>
            <a:off x="237960" y="785880"/>
            <a:ext cx="8668080" cy="532440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2" descr=""/>
          <p:cNvPicPr/>
          <p:nvPr/>
        </p:nvPicPr>
        <p:blipFill>
          <a:blip r:embed="rId2"/>
          <a:stretch/>
        </p:blipFill>
        <p:spPr>
          <a:xfrm>
            <a:off x="743040" y="6176880"/>
            <a:ext cx="816300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0" name="Picture 1" descr=""/>
          <p:cNvPicPr/>
          <p:nvPr/>
        </p:nvPicPr>
        <p:blipFill>
          <a:blip r:embed="rId1"/>
          <a:stretch/>
        </p:blipFill>
        <p:spPr>
          <a:xfrm>
            <a:off x="461880" y="785880"/>
            <a:ext cx="8220240" cy="202860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2" descr=""/>
          <p:cNvPicPr/>
          <p:nvPr/>
        </p:nvPicPr>
        <p:blipFill>
          <a:blip r:embed="rId2"/>
          <a:stretch/>
        </p:blipFill>
        <p:spPr>
          <a:xfrm>
            <a:off x="457200" y="2857680"/>
            <a:ext cx="8229600" cy="257148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4" descr=""/>
          <p:cNvPicPr/>
          <p:nvPr/>
        </p:nvPicPr>
        <p:blipFill>
          <a:blip r:embed="rId3"/>
          <a:stretch/>
        </p:blipFill>
        <p:spPr>
          <a:xfrm>
            <a:off x="4284720" y="1125360"/>
            <a:ext cx="503280" cy="35424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4" descr=""/>
          <p:cNvPicPr/>
          <p:nvPr/>
        </p:nvPicPr>
        <p:blipFill>
          <a:blip r:embed="rId4"/>
          <a:stretch/>
        </p:blipFill>
        <p:spPr>
          <a:xfrm>
            <a:off x="3924360" y="2421000"/>
            <a:ext cx="503280" cy="35568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4" descr=""/>
          <p:cNvPicPr/>
          <p:nvPr/>
        </p:nvPicPr>
        <p:blipFill>
          <a:blip r:embed="rId5"/>
          <a:stretch/>
        </p:blipFill>
        <p:spPr>
          <a:xfrm>
            <a:off x="4356000" y="3573360"/>
            <a:ext cx="503280" cy="35424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4" descr=""/>
          <p:cNvPicPr/>
          <p:nvPr/>
        </p:nvPicPr>
        <p:blipFill>
          <a:blip r:embed="rId6"/>
          <a:stretch/>
        </p:blipFill>
        <p:spPr>
          <a:xfrm>
            <a:off x="6443640" y="4035600"/>
            <a:ext cx="2449440" cy="35532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4" descr=""/>
          <p:cNvPicPr/>
          <p:nvPr/>
        </p:nvPicPr>
        <p:blipFill>
          <a:blip r:embed="rId7"/>
          <a:stretch/>
        </p:blipFill>
        <p:spPr>
          <a:xfrm>
            <a:off x="755640" y="4595760"/>
            <a:ext cx="1655640" cy="35568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4" descr=""/>
          <p:cNvPicPr/>
          <p:nvPr/>
        </p:nvPicPr>
        <p:blipFill>
          <a:blip r:embed="rId8"/>
          <a:stretch/>
        </p:blipFill>
        <p:spPr>
          <a:xfrm>
            <a:off x="6659640" y="4519440"/>
            <a:ext cx="2016000" cy="43992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4" descr=""/>
          <p:cNvPicPr/>
          <p:nvPr/>
        </p:nvPicPr>
        <p:blipFill>
          <a:blip r:embed="rId9"/>
          <a:stretch/>
        </p:blipFill>
        <p:spPr>
          <a:xfrm>
            <a:off x="826920" y="5018040"/>
            <a:ext cx="1584360" cy="3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Picture 1" descr=""/>
          <p:cNvPicPr/>
          <p:nvPr/>
        </p:nvPicPr>
        <p:blipFill>
          <a:blip r:embed="rId1"/>
          <a:stretch/>
        </p:blipFill>
        <p:spPr>
          <a:xfrm>
            <a:off x="243000" y="833400"/>
            <a:ext cx="8658000" cy="506736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2" descr=""/>
          <p:cNvPicPr/>
          <p:nvPr/>
        </p:nvPicPr>
        <p:blipFill>
          <a:blip r:embed="rId2"/>
          <a:stretch/>
        </p:blipFill>
        <p:spPr>
          <a:xfrm>
            <a:off x="738360" y="6019920"/>
            <a:ext cx="8172360" cy="69516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4" descr=""/>
          <p:cNvPicPr/>
          <p:nvPr/>
        </p:nvPicPr>
        <p:blipFill>
          <a:blip r:embed="rId3"/>
          <a:stretch/>
        </p:blipFill>
        <p:spPr>
          <a:xfrm>
            <a:off x="5580000" y="4100400"/>
            <a:ext cx="3095640" cy="35424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4" descr=""/>
          <p:cNvPicPr/>
          <p:nvPr/>
        </p:nvPicPr>
        <p:blipFill>
          <a:blip r:embed="rId4"/>
          <a:stretch/>
        </p:blipFill>
        <p:spPr>
          <a:xfrm>
            <a:off x="4211640" y="4579920"/>
            <a:ext cx="3816360" cy="45864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4" descr=""/>
          <p:cNvPicPr/>
          <p:nvPr/>
        </p:nvPicPr>
        <p:blipFill>
          <a:blip r:embed="rId5"/>
          <a:stretch/>
        </p:blipFill>
        <p:spPr>
          <a:xfrm>
            <a:off x="1332000" y="5491080"/>
            <a:ext cx="5111640" cy="3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4" name="Picture 1" descr=""/>
          <p:cNvPicPr/>
          <p:nvPr/>
        </p:nvPicPr>
        <p:blipFill>
          <a:blip r:embed="rId1"/>
          <a:stretch/>
        </p:blipFill>
        <p:spPr>
          <a:xfrm>
            <a:off x="233280" y="844560"/>
            <a:ext cx="8677440" cy="550548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2" descr=""/>
          <p:cNvPicPr/>
          <p:nvPr/>
        </p:nvPicPr>
        <p:blipFill>
          <a:blip r:embed="rId2"/>
          <a:stretch/>
        </p:blipFill>
        <p:spPr>
          <a:xfrm>
            <a:off x="727200" y="6440400"/>
            <a:ext cx="4657680" cy="33336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4" descr=""/>
          <p:cNvPicPr/>
          <p:nvPr/>
        </p:nvPicPr>
        <p:blipFill>
          <a:blip r:embed="rId3"/>
          <a:stretch/>
        </p:blipFill>
        <p:spPr>
          <a:xfrm>
            <a:off x="1116000" y="806400"/>
            <a:ext cx="7920000" cy="35568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4" descr=""/>
          <p:cNvPicPr/>
          <p:nvPr/>
        </p:nvPicPr>
        <p:blipFill>
          <a:blip r:embed="rId4"/>
          <a:stretch/>
        </p:blipFill>
        <p:spPr>
          <a:xfrm>
            <a:off x="1042920" y="1216080"/>
            <a:ext cx="7921800" cy="35568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4" descr=""/>
          <p:cNvPicPr/>
          <p:nvPr/>
        </p:nvPicPr>
        <p:blipFill>
          <a:blip r:embed="rId5"/>
          <a:stretch/>
        </p:blipFill>
        <p:spPr>
          <a:xfrm>
            <a:off x="826920" y="1619280"/>
            <a:ext cx="7921800" cy="35388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4" descr=""/>
          <p:cNvPicPr/>
          <p:nvPr/>
        </p:nvPicPr>
        <p:blipFill>
          <a:blip r:embed="rId6"/>
          <a:stretch/>
        </p:blipFill>
        <p:spPr>
          <a:xfrm>
            <a:off x="3938760" y="5100480"/>
            <a:ext cx="1296720" cy="35568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4" descr=""/>
          <p:cNvPicPr/>
          <p:nvPr/>
        </p:nvPicPr>
        <p:blipFill>
          <a:blip r:embed="rId7"/>
          <a:stretch/>
        </p:blipFill>
        <p:spPr>
          <a:xfrm>
            <a:off x="6084720" y="5516640"/>
            <a:ext cx="2880000" cy="35568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4" descr=""/>
          <p:cNvPicPr/>
          <p:nvPr/>
        </p:nvPicPr>
        <p:blipFill>
          <a:blip r:embed="rId8"/>
          <a:stretch/>
        </p:blipFill>
        <p:spPr>
          <a:xfrm>
            <a:off x="1187280" y="5950080"/>
            <a:ext cx="2953080" cy="35388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4" descr=""/>
          <p:cNvPicPr/>
          <p:nvPr/>
        </p:nvPicPr>
        <p:blipFill>
          <a:blip r:embed="rId9"/>
          <a:stretch/>
        </p:blipFill>
        <p:spPr>
          <a:xfrm>
            <a:off x="4356000" y="6386400"/>
            <a:ext cx="720720" cy="3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3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8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3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8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3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190440" y="1724040"/>
            <a:ext cx="8763120" cy="38480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4" descr=""/>
          <p:cNvPicPr/>
          <p:nvPr/>
        </p:nvPicPr>
        <p:blipFill>
          <a:blip r:embed="rId2"/>
          <a:stretch/>
        </p:blipFill>
        <p:spPr>
          <a:xfrm>
            <a:off x="8259840" y="2781360"/>
            <a:ext cx="442800" cy="3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3" name="Picture 1" descr=""/>
          <p:cNvPicPr/>
          <p:nvPr/>
        </p:nvPicPr>
        <p:blipFill>
          <a:blip r:embed="rId1"/>
          <a:srcRect l="0" t="0" r="0" b="17459"/>
          <a:stretch/>
        </p:blipFill>
        <p:spPr>
          <a:xfrm>
            <a:off x="214200" y="1035000"/>
            <a:ext cx="8715600" cy="367992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4" descr=""/>
          <p:cNvPicPr/>
          <p:nvPr/>
        </p:nvPicPr>
        <p:blipFill>
          <a:blip r:embed="rId2"/>
          <a:stretch/>
        </p:blipFill>
        <p:spPr>
          <a:xfrm>
            <a:off x="2843280" y="981000"/>
            <a:ext cx="1368360" cy="35568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4" descr=""/>
          <p:cNvPicPr/>
          <p:nvPr/>
        </p:nvPicPr>
        <p:blipFill>
          <a:blip r:embed="rId3"/>
          <a:stretch/>
        </p:blipFill>
        <p:spPr>
          <a:xfrm>
            <a:off x="2700360" y="2637000"/>
            <a:ext cx="2519280" cy="35532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4" descr=""/>
          <p:cNvPicPr/>
          <p:nvPr/>
        </p:nvPicPr>
        <p:blipFill>
          <a:blip r:embed="rId4"/>
          <a:stretch/>
        </p:blipFill>
        <p:spPr>
          <a:xfrm>
            <a:off x="3059280" y="3068640"/>
            <a:ext cx="720720" cy="35568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4" descr=""/>
          <p:cNvPicPr/>
          <p:nvPr/>
        </p:nvPicPr>
        <p:blipFill>
          <a:blip r:embed="rId5"/>
          <a:stretch/>
        </p:blipFill>
        <p:spPr>
          <a:xfrm>
            <a:off x="5076720" y="3467160"/>
            <a:ext cx="1943280" cy="35568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4" descr=""/>
          <p:cNvPicPr/>
          <p:nvPr/>
        </p:nvPicPr>
        <p:blipFill>
          <a:blip r:embed="rId6"/>
          <a:stretch/>
        </p:blipFill>
        <p:spPr>
          <a:xfrm>
            <a:off x="1130400" y="3890880"/>
            <a:ext cx="5905440" cy="35568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4" descr=""/>
          <p:cNvPicPr/>
          <p:nvPr/>
        </p:nvPicPr>
        <p:blipFill>
          <a:blip r:embed="rId7"/>
          <a:stretch/>
        </p:blipFill>
        <p:spPr>
          <a:xfrm>
            <a:off x="1187280" y="4292640"/>
            <a:ext cx="936720" cy="3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0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5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0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5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0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5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Picture 1" descr=""/>
          <p:cNvPicPr/>
          <p:nvPr/>
        </p:nvPicPr>
        <p:blipFill>
          <a:blip r:embed="rId1"/>
          <a:stretch/>
        </p:blipFill>
        <p:spPr>
          <a:xfrm>
            <a:off x="237960" y="892080"/>
            <a:ext cx="8668080" cy="70488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2" descr=""/>
          <p:cNvPicPr/>
          <p:nvPr/>
        </p:nvPicPr>
        <p:blipFill>
          <a:blip r:embed="rId2"/>
          <a:stretch/>
        </p:blipFill>
        <p:spPr>
          <a:xfrm>
            <a:off x="735120" y="1722600"/>
            <a:ext cx="8229600" cy="498132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4" descr=""/>
          <p:cNvPicPr/>
          <p:nvPr/>
        </p:nvPicPr>
        <p:blipFill>
          <a:blip r:embed="rId3"/>
          <a:stretch/>
        </p:blipFill>
        <p:spPr>
          <a:xfrm>
            <a:off x="5148360" y="3357720"/>
            <a:ext cx="3600360" cy="35388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4" descr=""/>
          <p:cNvPicPr/>
          <p:nvPr/>
        </p:nvPicPr>
        <p:blipFill>
          <a:blip r:embed="rId4"/>
          <a:stretch/>
        </p:blipFill>
        <p:spPr>
          <a:xfrm>
            <a:off x="4788000" y="3773520"/>
            <a:ext cx="1439640" cy="35568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4" descr=""/>
          <p:cNvPicPr/>
          <p:nvPr/>
        </p:nvPicPr>
        <p:blipFill>
          <a:blip r:embed="rId5"/>
          <a:stretch/>
        </p:blipFill>
        <p:spPr>
          <a:xfrm>
            <a:off x="1908000" y="4941720"/>
            <a:ext cx="719280" cy="35424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4" descr=""/>
          <p:cNvPicPr/>
          <p:nvPr/>
        </p:nvPicPr>
        <p:blipFill>
          <a:blip r:embed="rId6"/>
          <a:stretch/>
        </p:blipFill>
        <p:spPr>
          <a:xfrm>
            <a:off x="1908000" y="6093000"/>
            <a:ext cx="719280" cy="35532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4" descr=""/>
          <p:cNvPicPr/>
          <p:nvPr/>
        </p:nvPicPr>
        <p:blipFill>
          <a:blip r:embed="rId7"/>
          <a:stretch/>
        </p:blipFill>
        <p:spPr>
          <a:xfrm>
            <a:off x="4932360" y="5683320"/>
            <a:ext cx="3887640" cy="35568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4" descr=""/>
          <p:cNvPicPr/>
          <p:nvPr/>
        </p:nvPicPr>
        <p:blipFill>
          <a:blip r:embed="rId8"/>
          <a:stretch/>
        </p:blipFill>
        <p:spPr>
          <a:xfrm>
            <a:off x="4788000" y="6100920"/>
            <a:ext cx="3600360" cy="35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2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7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2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7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2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7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Picture 1" descr=""/>
          <p:cNvPicPr/>
          <p:nvPr/>
        </p:nvPicPr>
        <p:blipFill>
          <a:blip r:embed="rId1"/>
          <a:stretch/>
        </p:blipFill>
        <p:spPr>
          <a:xfrm>
            <a:off x="500040" y="928800"/>
            <a:ext cx="8143920" cy="326700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4" descr=""/>
          <p:cNvPicPr/>
          <p:nvPr/>
        </p:nvPicPr>
        <p:blipFill>
          <a:blip r:embed="rId2"/>
          <a:stretch/>
        </p:blipFill>
        <p:spPr>
          <a:xfrm>
            <a:off x="4932360" y="1298520"/>
            <a:ext cx="1727280" cy="35568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4" descr=""/>
          <p:cNvPicPr/>
          <p:nvPr/>
        </p:nvPicPr>
        <p:blipFill>
          <a:blip r:embed="rId3"/>
          <a:stretch/>
        </p:blipFill>
        <p:spPr>
          <a:xfrm>
            <a:off x="7956720" y="2133720"/>
            <a:ext cx="718920" cy="35388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4" descr=""/>
          <p:cNvPicPr/>
          <p:nvPr/>
        </p:nvPicPr>
        <p:blipFill>
          <a:blip r:embed="rId4"/>
          <a:stretch/>
        </p:blipFill>
        <p:spPr>
          <a:xfrm>
            <a:off x="900000" y="2549520"/>
            <a:ext cx="3672000" cy="35568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4" descr=""/>
          <p:cNvPicPr/>
          <p:nvPr/>
        </p:nvPicPr>
        <p:blipFill>
          <a:blip r:embed="rId5"/>
          <a:stretch/>
        </p:blipFill>
        <p:spPr>
          <a:xfrm>
            <a:off x="4356000" y="3789360"/>
            <a:ext cx="1656000" cy="3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4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9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4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3" name="Picture 1" descr=""/>
          <p:cNvPicPr/>
          <p:nvPr/>
        </p:nvPicPr>
        <p:blipFill>
          <a:blip r:embed="rId1"/>
          <a:stretch/>
        </p:blipFill>
        <p:spPr>
          <a:xfrm>
            <a:off x="214200" y="961920"/>
            <a:ext cx="8715600" cy="546732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4" descr=""/>
          <p:cNvPicPr/>
          <p:nvPr/>
        </p:nvPicPr>
        <p:blipFill>
          <a:blip r:embed="rId2"/>
          <a:stretch/>
        </p:blipFill>
        <p:spPr>
          <a:xfrm>
            <a:off x="5724360" y="1757520"/>
            <a:ext cx="719280" cy="35532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4" descr=""/>
          <p:cNvPicPr/>
          <p:nvPr/>
        </p:nvPicPr>
        <p:blipFill>
          <a:blip r:embed="rId3"/>
          <a:stretch/>
        </p:blipFill>
        <p:spPr>
          <a:xfrm>
            <a:off x="1965240" y="4811760"/>
            <a:ext cx="719280" cy="3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6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1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Picture 1" descr=""/>
          <p:cNvPicPr/>
          <p:nvPr/>
        </p:nvPicPr>
        <p:blipFill>
          <a:blip r:embed="rId1"/>
          <a:stretch/>
        </p:blipFill>
        <p:spPr>
          <a:xfrm>
            <a:off x="514440" y="1195560"/>
            <a:ext cx="8115120" cy="446688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4" descr=""/>
          <p:cNvPicPr/>
          <p:nvPr/>
        </p:nvPicPr>
        <p:blipFill>
          <a:blip r:embed="rId2"/>
          <a:stretch/>
        </p:blipFill>
        <p:spPr>
          <a:xfrm>
            <a:off x="250920" y="1174680"/>
            <a:ext cx="8893080" cy="35424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4" descr=""/>
          <p:cNvPicPr/>
          <p:nvPr/>
        </p:nvPicPr>
        <p:blipFill>
          <a:blip r:embed="rId3"/>
          <a:stretch/>
        </p:blipFill>
        <p:spPr>
          <a:xfrm>
            <a:off x="250920" y="1623960"/>
            <a:ext cx="8893080" cy="43200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4" descr=""/>
          <p:cNvPicPr/>
          <p:nvPr/>
        </p:nvPicPr>
        <p:blipFill>
          <a:blip r:embed="rId4"/>
          <a:stretch/>
        </p:blipFill>
        <p:spPr>
          <a:xfrm>
            <a:off x="250920" y="2205000"/>
            <a:ext cx="8893080" cy="73512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4" descr=""/>
          <p:cNvPicPr/>
          <p:nvPr/>
        </p:nvPicPr>
        <p:blipFill>
          <a:blip r:embed="rId5"/>
          <a:stretch/>
        </p:blipFill>
        <p:spPr>
          <a:xfrm>
            <a:off x="250920" y="3038400"/>
            <a:ext cx="8893080" cy="64944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4" descr=""/>
          <p:cNvPicPr/>
          <p:nvPr/>
        </p:nvPicPr>
        <p:blipFill>
          <a:blip r:embed="rId6"/>
          <a:stretch/>
        </p:blipFill>
        <p:spPr>
          <a:xfrm>
            <a:off x="250920" y="3747960"/>
            <a:ext cx="8893080" cy="35568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4" descr=""/>
          <p:cNvPicPr/>
          <p:nvPr/>
        </p:nvPicPr>
        <p:blipFill>
          <a:blip r:embed="rId7"/>
          <a:stretch/>
        </p:blipFill>
        <p:spPr>
          <a:xfrm>
            <a:off x="250920" y="4205160"/>
            <a:ext cx="8893080" cy="62388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4" descr=""/>
          <p:cNvPicPr/>
          <p:nvPr/>
        </p:nvPicPr>
        <p:blipFill>
          <a:blip r:embed="rId8"/>
          <a:stretch/>
        </p:blipFill>
        <p:spPr>
          <a:xfrm>
            <a:off x="250920" y="4873680"/>
            <a:ext cx="8893080" cy="3556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4" descr=""/>
          <p:cNvPicPr/>
          <p:nvPr/>
        </p:nvPicPr>
        <p:blipFill>
          <a:blip r:embed="rId9"/>
          <a:stretch/>
        </p:blipFill>
        <p:spPr>
          <a:xfrm>
            <a:off x="250920" y="5256360"/>
            <a:ext cx="8893080" cy="35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8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3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8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3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8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3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8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3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1" descr=""/>
          <p:cNvPicPr/>
          <p:nvPr/>
        </p:nvPicPr>
        <p:blipFill>
          <a:blip r:embed="rId1"/>
          <a:stretch/>
        </p:blipFill>
        <p:spPr>
          <a:xfrm>
            <a:off x="223920" y="1547640"/>
            <a:ext cx="8696160" cy="39531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"/>
          <p:cNvPicPr/>
          <p:nvPr/>
        </p:nvPicPr>
        <p:blipFill>
          <a:blip r:embed="rId2"/>
          <a:stretch/>
        </p:blipFill>
        <p:spPr>
          <a:xfrm>
            <a:off x="8259840" y="2060640"/>
            <a:ext cx="442800" cy="3556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3"/>
          <a:stretch/>
        </p:blipFill>
        <p:spPr>
          <a:xfrm>
            <a:off x="8259840" y="3097080"/>
            <a:ext cx="442800" cy="3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237960" y="2386080"/>
            <a:ext cx="8668080" cy="24001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2"/>
          <a:stretch/>
        </p:blipFill>
        <p:spPr>
          <a:xfrm>
            <a:off x="8305920" y="3411360"/>
            <a:ext cx="442800" cy="3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1" descr=""/>
          <p:cNvPicPr/>
          <p:nvPr/>
        </p:nvPicPr>
        <p:blipFill>
          <a:blip r:embed="rId1"/>
          <a:stretch/>
        </p:blipFill>
        <p:spPr>
          <a:xfrm>
            <a:off x="214200" y="857160"/>
            <a:ext cx="8715600" cy="47721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2" descr=""/>
          <p:cNvPicPr/>
          <p:nvPr/>
        </p:nvPicPr>
        <p:blipFill>
          <a:blip r:embed="rId2"/>
          <a:stretch/>
        </p:blipFill>
        <p:spPr>
          <a:xfrm>
            <a:off x="534960" y="5724360"/>
            <a:ext cx="7562880" cy="8478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3"/>
          <a:stretch/>
        </p:blipFill>
        <p:spPr>
          <a:xfrm>
            <a:off x="8259840" y="1866960"/>
            <a:ext cx="442800" cy="3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Picture 1" descr=""/>
          <p:cNvPicPr/>
          <p:nvPr/>
        </p:nvPicPr>
        <p:blipFill>
          <a:blip r:embed="rId1"/>
          <a:stretch/>
        </p:blipFill>
        <p:spPr>
          <a:xfrm>
            <a:off x="214200" y="1676520"/>
            <a:ext cx="8715600" cy="38955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2"/>
          <a:stretch/>
        </p:blipFill>
        <p:spPr>
          <a:xfrm>
            <a:off x="8259840" y="2147760"/>
            <a:ext cx="442800" cy="3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Picture 1" descr=""/>
          <p:cNvPicPr/>
          <p:nvPr/>
        </p:nvPicPr>
        <p:blipFill>
          <a:blip r:embed="rId1"/>
          <a:stretch/>
        </p:blipFill>
        <p:spPr>
          <a:xfrm>
            <a:off x="233280" y="1538280"/>
            <a:ext cx="8677440" cy="41054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4" descr=""/>
          <p:cNvPicPr/>
          <p:nvPr/>
        </p:nvPicPr>
        <p:blipFill>
          <a:blip r:embed="rId2"/>
          <a:stretch/>
        </p:blipFill>
        <p:spPr>
          <a:xfrm>
            <a:off x="8267760" y="1989000"/>
            <a:ext cx="442800" cy="3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1" descr=""/>
          <p:cNvPicPr/>
          <p:nvPr/>
        </p:nvPicPr>
        <p:blipFill>
          <a:blip r:embed="rId1"/>
          <a:stretch/>
        </p:blipFill>
        <p:spPr>
          <a:xfrm>
            <a:off x="243000" y="1081080"/>
            <a:ext cx="8658000" cy="18478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2" descr=""/>
          <p:cNvPicPr/>
          <p:nvPr/>
        </p:nvPicPr>
        <p:blipFill>
          <a:blip r:embed="rId2"/>
          <a:stretch/>
        </p:blipFill>
        <p:spPr>
          <a:xfrm>
            <a:off x="247680" y="3071880"/>
            <a:ext cx="8648640" cy="33526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3"/>
          <a:stretch/>
        </p:blipFill>
        <p:spPr>
          <a:xfrm>
            <a:off x="8259840" y="1557360"/>
            <a:ext cx="442800" cy="3538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4"/>
          <a:stretch/>
        </p:blipFill>
        <p:spPr>
          <a:xfrm>
            <a:off x="8259840" y="4059360"/>
            <a:ext cx="442800" cy="35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1" descr=""/>
          <p:cNvPicPr/>
          <p:nvPr/>
        </p:nvPicPr>
        <p:blipFill>
          <a:blip r:embed="rId1"/>
          <a:stretch/>
        </p:blipFill>
        <p:spPr>
          <a:xfrm>
            <a:off x="209520" y="1405080"/>
            <a:ext cx="8724960" cy="438120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2"/>
          <a:stretch/>
        </p:blipFill>
        <p:spPr>
          <a:xfrm>
            <a:off x="8259840" y="2413080"/>
            <a:ext cx="442800" cy="3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4T03:44:10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